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DB65A-8889-43F1-9CDC-56D7435F2D6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EC7D3-9CF8-496D-955C-90DC9D1C961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6D3F5-C1AA-44BD-AA03-4493174355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0F7F7-D605-49B4-B2F5-1858A71FC2CF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39773-FFFF-4C3F-B30B-8262F40CD6E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9861D-2561-43CB-ABE9-BF38D82EFAE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4548E-F164-498E-9921-8BC87D2DEA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3 Marcador de número de diapositiva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95765-8CF9-4090-BAE1-705D839D2B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D562A-D41E-4C71-8648-257FD4F284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Inteligencia Inte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5FF-8A69-46F2-94D2-F84DF112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A33-DC92-4E9F-80F6-8F7419E4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1D2AB-CD9D-4110-A6E3-2E86DAA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0AEFA-C055-4135-9235-DA5CBEF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11534-0FA0-4F68-8E0C-1E487A77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50D6C-08A4-4E80-ABD7-4217D2F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6EF1F-89B1-40A0-B831-887295D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89A5-2E42-4603-B537-EAB2283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EFE8B-A9EE-476F-B94C-9C47B2B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5250C-652C-4CC2-B386-D42E8ED6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829DA-7F8F-4C60-BE78-E4FB47A6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112AD-DFBD-4B37-8613-410F31F1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DB7-0394-42CB-9C2C-4BD5EF64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557B-A18C-4248-A2F8-B54F09F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60F02-D510-42DF-B874-21FB0E68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ADCC-918E-4C72-A614-E799698C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A71CF-AC14-4A6A-ABB5-E0D45B6B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A997F-6C35-4235-B02E-9F16E0B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04DF1-9638-4E8A-B95F-9973BFF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4F2AF-8E08-4ECC-8441-26395F8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EB97-8550-440A-9325-F2EA64FE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9DEC3-169D-4756-A2A5-2932123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8AD09-84AB-4592-9E92-C9A6A397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491-F6F9-4FD0-B399-C1238E30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4F1EC-76DB-465E-BA57-AE170A75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A529F-D2BA-4D97-9AF6-BEF6406A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86490-0D48-493C-8AF0-158E720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E352A-954E-4A40-ADEE-B851143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04ACE-EE07-44CF-965C-BF27DE8B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B498-FCBA-47AD-9C66-BFF97051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925B-EE8B-4F3B-A103-E33E640D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4C19-91D0-4820-BA74-549861E4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C69B-1A08-40CC-A29B-272F63D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38370-2CC6-4975-87DD-7EFA1BE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7C36-809C-43B1-B6E3-E7906EF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A8A43-19BD-4F35-B896-0274355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B800-5450-4DAE-8A2F-5AE8327C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349DE-C86B-458C-8ADA-6C47CBBD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CD2EE-7498-4DD2-858E-F96EB070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0E30B-46D3-4BAC-913B-74178C3A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909F5-6F0C-456D-83DA-2D77E61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3756A-93E3-40A0-9EDD-10A0E50C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75281-DE9F-4BB7-B4A9-58BCF33C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3567C-6870-4C2E-AA1F-AF3805F9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EE99B-5100-4801-A1D2-941814CB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912F-8243-4B45-9C33-BFE695D0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8766E-3BC7-44AD-99ED-23B6773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12F31-1451-409D-8974-3B544786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32203-E140-4F86-9D9C-C8D4FB6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6AF66-D567-4AEC-9FFF-E3C7706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7FA23-88B2-4874-9042-325CE892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65AB2-183C-417F-8706-AAE0ECA2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D435C-5679-4D7F-96BA-832EDA44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A7BD2-4D30-4FB5-BC92-358CB5FA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59030-7298-4125-A779-0AEFA15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7A995-D775-4A91-8216-D19CCE06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7870-AE92-4AF3-B6F2-E3A3849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29C65-1DCD-4F36-B30E-4E432FA5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D28EF-566A-43F6-B218-9EA366F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781AB-911B-41B1-AC84-AAC2A09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518A7-7D34-493F-BEB5-BCFF71D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09BA8-B3EB-46B7-994C-A086AB45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B8C66-0153-4D42-8855-D1F49D4B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37FB8-0980-4200-A8F6-177C4101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72D08-ADE8-4797-9617-0178B345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BE243-FECE-4A34-850C-3FB0282A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A7394-227E-4F14-B9F5-DCCF040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499-4D36-4436-8B1F-452EFDF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5AC1D-DDA6-40BC-A1DA-F3138294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6ABF1-39D9-4537-BA07-88E74D8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835DA-722B-435E-8367-CA31636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832EB-ED45-4E2C-8752-C680EC8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70158-2955-41C2-89CD-78706B57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6A1D6-58FA-4DBD-9B9C-797F1E95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62E65-90D5-4F1E-9A2A-5143245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C0154-E021-46BC-9583-C0FD6E13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5F67B-3B51-4160-9881-AC99B88C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C11DE-FB54-41F2-9828-6B8DF17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A40-EFBF-4201-99CC-B8CDBCF9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33FDC-4780-47D2-A3B6-5CF4E8CF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B643A-A9F3-4399-8FAF-E9582413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31718-5054-4D1E-9D18-42E3C35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3919D-4569-4C4C-969A-64957041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94437-C578-461C-AAEE-BDD2CD3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EE30C-2CFC-4EC0-A546-F1C93A1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97F2E-665A-4E63-8FA4-7635339F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28836-620E-4D34-9BC8-17CC9D7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3B4DC-8B7F-4FB1-A67D-368C6327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D4A00-502F-4EDE-AC32-ECAEEC61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190-AB6F-4607-8D91-3CB056C3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2793E-0E40-4D95-8882-D437BA5B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08600-6236-43D4-B24D-A5D80583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286F6-272D-40DA-9F48-A3D609F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E72FF-E002-4C1D-AD5F-4AC124B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A9BBF-0FAD-4FA2-A439-9B69F60F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923AB-B3BD-4052-866B-B175B2D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534E6-2C07-4895-8C5B-D55838C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D07A33-CEBD-4F04-A6A2-0459EEB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BD9C6-2FE0-4A4B-99FD-41B0377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68130-2533-42E2-8AAB-BB821AB6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E265-D5CA-4D7B-9847-72E8E38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01E2D-D7EE-4E3B-82A7-68004EEA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7A90A-DE77-4439-A3D1-D2732F1E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ACBB7-BF8B-4B4C-AFA2-4E65206A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B4829-FFCC-4C1B-B531-D0B83042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5B98D-A0F9-434F-ACEC-D1DF5818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E211B-0EFE-4AB5-A20F-570FB54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05097-4543-4620-97C5-5628E30C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AFD3B-BC73-49D1-AD4B-256E7EC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E4880-9927-4942-9F99-B4794056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31EAE-C427-43E7-A416-984E748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F2C-0213-414C-BF47-5B915A56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AE51-E331-46B2-A00E-391D5FC1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5D35E-02E5-479A-9D32-DDFAE57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B0053-BF08-4364-9574-25BBE9D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C996C-A0FC-43CB-B7E6-8550899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C026C-C2DE-458B-AC30-792A57EF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B5CFE-100C-4C1C-82A7-4A236F8F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2EFF9-9B9C-405A-AE0A-FDE1C2D5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A900B-50E0-4572-AFDA-60CEF09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49547-BFAB-41CF-B42B-C525CF0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BDA5E4-D7E9-430F-99F0-18A6AF9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D260D-139E-4699-87AB-887549D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62E-6BE9-4D63-9EF9-9A1A654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51F74-904F-4E33-B274-C13EC78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C8E4A-3F4E-4572-9525-2FCF3425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9978C-3657-40DA-9E14-A63A64A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7492B-B718-40CB-AC0C-D53727F9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30860-9B2F-4A7E-BD58-0088D23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250AB-906D-4FAE-9C70-4E40E3A2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49990-72B2-4901-B09D-8BE07944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A7757-4D57-4A8D-B8D8-456350FD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D5BB1-A292-4654-A861-F8899DA7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8C2B1-2424-4FEA-A91D-C3F6DFD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F441-839C-4DB8-9A3D-3BFD6880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6C45C-8357-4607-84FB-D9510912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C21D0-9705-45E6-909F-6284A15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8F954-31B4-4F53-8E2F-E33F8E1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1907D-7C5C-4BD3-8A37-8C027D34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26BBF-F2F5-4098-8F72-F06B1B6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21388-01BD-430B-B3E2-0DF2BAE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3425B-C968-4A96-8AAE-9F697D20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E8179-E925-4F47-9EEC-76BA2AF1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54E70-9098-4557-B8B2-5EC278C6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E1445-F769-4454-844C-7231692C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9AB7-DBCD-4B53-A686-8CC52456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5B05F-EC03-478D-9103-47321CB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A781F-7DAF-4F7A-8E90-7726D0E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E47A9-A8AE-4E8D-B188-96589827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E1B81-5BE7-42C4-94F9-51A101F8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BC150-C938-49A1-98B3-D54C980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7400A-9B80-4488-9562-00031F4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02727-1ED5-4B4E-9690-0711A12F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15CA3-0160-4AC0-843D-FAEF0F5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E4E69-3570-422E-9928-458195B0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F7FA9-3EAE-4A1E-97AB-6A7C33A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7EDE-21E7-4377-B66A-42C4CAD4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05D50-2C54-4C88-8D50-36D043A3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3CF3E-7D5B-488D-A12E-51612B75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6C1DE-FBAE-415D-B13A-7DADA419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D1A2C-8884-4152-9A2F-183E7A95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A3F79-F9FA-4681-A583-7D842F9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7B543-78BF-40C8-A3F9-FA3D02E1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C416C2-05B0-462A-A8B9-70DE25EC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A979E-D5CC-47CF-823E-623F6D6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AD2AAF-D929-4AD1-8E73-9EF92E7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B497B-AE7F-4F64-B6B8-AAA7955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ECF8-9755-4DCC-9BD8-2499B6AB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19839F-317F-4AD9-A9D5-44D9F42C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D0C83-5AD7-4C2F-8A27-2F3B03D1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F82B1-1F08-441C-B021-55413142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95593A-45EB-4D4D-97E4-2547B181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05A4E0-2738-4683-A353-28C1C4F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1845B-0F67-4906-B709-859CDA4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9A404-9F30-49BC-A8A6-4501DB8C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86C069-4C9F-47E2-B088-DAED23EB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86A4D-FAEB-42EF-91C3-DBA144F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05A88C-203E-4D74-9B81-B80061B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4CE2-FEBD-4EFF-B349-DBE43843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C059F9-CA26-400D-84D2-89E6BA2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02BD1-4066-4028-A10E-DFA9B52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2D99F-4777-43B6-9F5C-3A53ED59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40D511-0D85-4E15-97C0-5D70CB93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18074-6F58-4960-9124-5192062C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F5B37B-2CFC-4652-9374-CE9D01A6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9415B7-22BE-4BF5-839B-CF9E82C8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3BE1B7-4B81-45B3-A15F-5C63596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4EDB3D-D2B7-4A2A-AA41-835F2AB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32A5FE-2BBB-4900-BE38-D253F32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6A42-D405-40CD-91AE-1544EF8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D68DD-CE5A-42FE-8987-1E4BA2C8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F9FB19-5131-41F2-B123-5D67809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C8F3BF-7872-489E-AB80-99820CA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B5584-94C8-42DF-A287-95AE9C1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530108-0F0F-4D6D-B738-6303EF2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57E35B-7332-4D32-8993-7DBCBE7F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891F8-8368-465C-9F98-A1BFAC0D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19BCF-1BF7-44CC-94C0-7940125B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CD88F6-3B09-4EB4-B619-982914D4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8932E-8178-4B28-BE37-539B4671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182C-8374-4A81-805D-B0EAA9D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F3EF5C-FD4E-41BF-8548-453D97A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54FE1B-4C6E-4DF6-BCC7-8820A48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F2CE16-7495-450F-BCC9-30ACCFB4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FB6A2B-DB4D-425D-A683-5D69C932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209B5-4779-44CF-A6ED-DDA3B5D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79FE42-D8B2-4B3B-B4EE-9B50EEE2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38F616-2412-48F2-8819-F9101551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5A8DD-DC61-4275-B9B8-4E7C3098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C560DF-71FF-4040-B6D9-1DC5CDBC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10BD8C-3152-4B92-A706-0EE10FCA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9F0E-CEE8-45E2-A545-4A98557D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780F32-2A12-41DA-8A47-F73E1C8D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0949DC-43BB-4D77-ADE3-4AD66755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FD2669-75CA-4574-BAF3-609BEC84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C22AD1-F6F5-4E56-80C2-3DD2725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6B5D41-6E6C-406D-8D48-895BF494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940834-0E10-419A-9434-6CCCCEC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2D3E3-B8FC-4ABA-91E5-E64559F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3DE88A-B343-4E48-9DAB-3AD73F7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B6B816-1464-4238-B88E-00262ED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AE44BE-6C74-48DE-BC86-B4FAE85C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799-80DC-4E5E-8993-66505A5B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AD26-67E7-4361-B1CF-B6F9D43A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D4FB81-C4CA-4D56-9AD8-11BA1256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F10C04-3712-4220-9D10-98C465E413C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C3807E8-FB6C-43E7-AEA0-57ECECF251F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D06782E-FDAC-46F1-A3FA-EA822A492D7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D4699D8-9D37-4106-8846-F0A9BCC9C1A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A2D72AE-6504-4208-9131-A68BD1FC7E5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AD607E3-6AE7-46CA-A356-E203819918C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0E201DF-AD33-49FF-AF1A-92D6C4FF2B1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7AB78ED-BA9C-4774-8C1E-917FE12EE21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D2B1AE8-FF1C-4ECE-8D80-573FB65944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4C47-ECAD-4251-A0F9-F724A80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AB9B5FA-C2C3-48EE-B9B2-A56A3D83202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8B597B5-107C-4EB3-8D75-5B31704AEF0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0B3724B-5117-47B5-8809-684E0049BDC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57F60D-9E2D-49AA-82E8-6057F3F0644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5FF4377-B9B2-4927-8797-6585E7B8F38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D81CAC-030F-432D-9FEE-2CCD05B79BB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C252DA-FF88-423E-968C-0768B2BB772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8B7317-113F-4005-BBB1-056A28462A9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9A6A4A-027A-4649-8C40-BCC7A71254B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8741B73-3176-425D-B35E-62928E5AD6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3ABD-6A32-400C-AC88-6BA15A8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131FFB-098C-4622-86A8-0F91A42F779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471B71-3EE7-4B4C-A2AF-8D1DA01755B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2BCA69-793C-480E-93A6-D52CDE83640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9F191F-6DF5-4FAA-985E-A9F8C241E69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2BA6E69-C90D-4A58-87A7-467ECA0334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31BD-5633-45C4-BD55-C8E5F8F0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15DF-B91F-49AB-B94A-6494D7F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D503-71C1-4277-9AF4-86FAA072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7456-67B5-4DB3-95D8-10150A14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DD13-9353-4AC0-9D2B-7165C409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13DB-88E9-47FB-8A5A-059077A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FBEE-0CC9-4B49-9C3F-3833FF5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AF7-8FEB-4F34-B68E-AD69FED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6C79-320E-4F68-A9E1-7C9635A8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A007-014B-4B46-8212-08CBE19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9A76-7E03-4EC4-8B54-8F16FED6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6DFA-6D86-4C8D-AB91-2D7681D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D4CA-B245-4E51-ADE0-997868F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6F27-AF12-4E05-B6A2-7E70F6F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84C4-36AB-4530-B18E-F8FE791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A5B8-60BF-499D-96D0-4B7AA598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A8A8-7943-4019-9457-B747B891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5529-B50C-4396-8A5B-A1B8C3E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C97-7238-4781-B901-64010FE0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7A81-183B-4857-B438-AF1E582B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A7D24-B3A4-4C1A-8AAC-029BA24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B8B9-0ADB-4A0A-8F63-B305158B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77B2-EF1B-4C63-BE67-A39B9E3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D2E0-412A-42CA-A5F2-0E3A0E9A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E5EF-D28A-45A8-AF5D-9218E35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243F-BED2-4C09-87AB-F27AF6E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4A9F-72CB-454B-8537-F42D8EE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530D5-BE9D-4479-8C1B-AFBA9C77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A4A5-BE16-432F-B15B-20A375AB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E5F-4DEE-4A47-8CF9-62A5EA3D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F776-C6E0-4DBA-91E6-68FBDABC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F86D-C943-46DA-8B8C-D7C7F1F1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D75A-FE4F-43BC-86E1-1468C9E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58D57-7275-4112-9974-089241A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7E444-AC98-481C-92FE-44473F43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0306-8626-4BB5-80DC-DC8AF398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E95F-896F-4DE0-90D3-06BEAECE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F55C-4DA4-4E7D-9CA0-762B258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54FFC-D0E0-4559-913A-053BE7B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AAFF-C5D4-41B3-9252-720F308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F16-AD93-43F0-9D7F-1598B95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4EFC-262F-4539-B9E5-F7BBC972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888A-E456-4CEE-8AA8-3032B401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43A7-6FDA-4E8A-8678-91AA1B41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18A6-F4ED-4570-BFB3-AC901480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565C-689A-4730-9BE1-7AB40AB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2654E-4F96-436E-B3C8-3E32B6D9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B190-C180-4A30-99EE-ADD77FD9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6C6B-EDC9-45F6-8F7C-2E8DA263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41AF-F546-4A14-8F10-3D22F317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F2D8-8975-4F78-8369-3C3806E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05A-5A04-4EB7-8173-FEE594C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59F2F-7BB0-41F2-BEBF-3DE1A2D3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4E12-B7D8-4D44-959A-DC971AB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3771C-1A33-4D5E-9B87-94410A7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1558-7B3D-4B38-8DF8-D0C085EF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35C67-0E6E-429F-AA5D-D7409340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ADCDC-1484-444E-BFA4-08B54A08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20BD-0358-4B6A-98D1-101B979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9616-45F2-4EF0-BA09-C1883437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579C4-8324-4EA4-ACD3-02E35E3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3B01A-AF19-49C2-9443-922458EF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996-376D-43EF-9E7D-687580C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906D1-2503-4986-80A0-2CF241EA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BC03-332F-4A47-86C5-949B97D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27D18-127C-441D-8D3B-74D2FBD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E7A3-21A1-4800-B87F-BF26EF0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B216-7F5C-47DF-A403-BB924031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E3989-AB16-4E0F-8115-EA4A7051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77CD2-672B-40AA-A7C6-D7D364AB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DA8B2-9B4E-43B4-BA19-62A658AB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DDBA-1021-4FC4-B737-9C95A01E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BBF83-A958-4B1E-BBA4-C199D18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D4559-B7C4-45E6-9FCB-DE9896E9B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B049E-62BF-4DD3-BB99-A914DC489B20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94510-7F41-462C-B046-5BC670A38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A550E-B95B-4D5D-8134-F32C95F1D3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B4089-B878-451D-BE2E-65026D0D1C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C611D-AE0F-44C5-AA37-31232548707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6 Rectángulo"/>
          <p:cNvSpPr/>
          <p:nvPr/>
        </p:nvSpPr>
        <p:spPr>
          <a:xfrm>
            <a:off x="0" y="6357960"/>
            <a:ext cx="12192120" cy="500040"/>
          </a:xfrm>
          <a:prstGeom prst="rect">
            <a:avLst/>
          </a:prstGeom>
          <a:solidFill>
            <a:srgbClr val="e3de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200" spc="-1" strike="noStrike">
                <a:solidFill>
                  <a:srgbClr val="0070c0"/>
                </a:solidFill>
                <a:latin typeface="Impact"/>
              </a:rPr>
              <a:t>marita@msr.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83260-C8C2-4C1F-B5A3-E91A9CC9438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B6666-948F-4335-82DC-9A0ECC155C9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5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5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ABD5D-1B18-4FB1-B8F6-7D0DFEFACB2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A5D24-51D3-44EF-99D0-942ECBDD677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96A95-52E5-4D12-BF96-6BDA6A8D45A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94BB8-7295-43BF-982D-D30BFED669E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6 Rectángulo"/>
          <p:cNvSpPr/>
          <p:nvPr/>
        </p:nvSpPr>
        <p:spPr>
          <a:xfrm>
            <a:off x="0" y="6357960"/>
            <a:ext cx="12192120" cy="500040"/>
          </a:xfrm>
          <a:prstGeom prst="rect">
            <a:avLst/>
          </a:prstGeom>
          <a:solidFill>
            <a:srgbClr val="e3de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200" spc="-1" strike="noStrike">
                <a:solidFill>
                  <a:srgbClr val="0070c0"/>
                </a:solidFill>
                <a:latin typeface="Impact"/>
              </a:rPr>
              <a:t>marita@msr.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8C398-C620-4E9E-BE5D-37CE267CF49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1104B-8D57-4141-A494-627F1644DC5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52778-6A43-4709-AC41-EBAB697BFAC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2DFC3-ECB1-4D6B-A601-9EA748DEB7D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7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7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7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D984C-4C1F-4CBB-876D-8FA4DA1A4A8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73"/>
          </p:nvPr>
        </p:nvSpPr>
        <p:spPr>
          <a:xfrm>
            <a:off x="1549080" y="62434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74"/>
          </p:nvPr>
        </p:nvSpPr>
        <p:spPr>
          <a:xfrm>
            <a:off x="4876920" y="6243480"/>
            <a:ext cx="386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www.toptenms.com   info@mindvalu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75"/>
          </p:nvPr>
        </p:nvSpPr>
        <p:spPr>
          <a:xfrm>
            <a:off x="9389880" y="62434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8DDCC-523F-4539-A3F1-6B88A4B4EF4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7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E12E1-ECAF-4CC5-865D-4A94ABEC391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sldNum" idx="77"/>
          </p:nvPr>
        </p:nvSpPr>
        <p:spPr>
          <a:xfrm>
            <a:off x="496800" y="6568920"/>
            <a:ext cx="254016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F2D80-B9C5-42E9-B1A0-3BBC7613153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FFDFB-C5F3-4D57-B535-9FE0DD33C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F4E49-67EC-46B7-AD36-ADC7FB1D34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29190-A791-45A1-96F4-1CD69BEE19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6FF8B-BEA0-44D8-8538-8B8D00560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23E8F-377F-4F9A-9297-18A2B00202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3ABC6-0866-4EB5-9C53-8F618E315C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9A1DC-3557-447A-ABCD-783268F4C6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1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200" spc="-1" strike="noStrike">
                <a:solidFill>
                  <a:srgbClr val="262626"/>
                </a:solidFill>
                <a:latin typeface="Calibri Light"/>
              </a:rPr>
              <a:t>EL ROL DE LAS ORGANIZACIONES PARA EL ÉXITO DE LAS PERSONAS</a:t>
            </a: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37052"/>
                </a:solidFill>
                <a:latin typeface="Calibri Light"/>
              </a:rPr>
              <a:t>MARITA ABRAHAM (MBA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2"/>
          <p:cNvSpPr/>
          <p:nvPr/>
        </p:nvSpPr>
        <p:spPr>
          <a:xfrm>
            <a:off x="1523880" y="0"/>
            <a:ext cx="9144000" cy="476280"/>
          </a:xfrm>
          <a:prstGeom prst="rect">
            <a:avLst/>
          </a:prstGeom>
          <a:solidFill>
            <a:srgbClr val="b3a2c7"/>
          </a:solidFill>
          <a:ln w="1260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1523880" y="357120"/>
            <a:ext cx="500040" cy="6500880"/>
          </a:xfrm>
          <a:prstGeom prst="rect">
            <a:avLst/>
          </a:prstGeom>
          <a:solidFill>
            <a:srgbClr val="b3a2c7"/>
          </a:solidFill>
          <a:ln w="1260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1523880" y="6381720"/>
            <a:ext cx="9144000" cy="476280"/>
          </a:xfrm>
          <a:prstGeom prst="rect">
            <a:avLst/>
          </a:prstGeom>
          <a:solidFill>
            <a:srgbClr val="b3a2c7"/>
          </a:solidFill>
          <a:ln w="1260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10199520" y="0"/>
            <a:ext cx="468360" cy="6858000"/>
          </a:xfrm>
          <a:prstGeom prst="rect">
            <a:avLst/>
          </a:prstGeom>
          <a:solidFill>
            <a:srgbClr val="b3a2c7"/>
          </a:solidFill>
          <a:ln w="1260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3" name="Picture 8" descr="LasCarasDeLaSemana"/>
          <p:cNvPicPr/>
          <p:nvPr/>
        </p:nvPicPr>
        <p:blipFill>
          <a:blip r:embed="rId1"/>
          <a:stretch/>
        </p:blipFill>
        <p:spPr>
          <a:xfrm>
            <a:off x="3503520" y="549360"/>
            <a:ext cx="4687920" cy="5805360"/>
          </a:xfrm>
          <a:prstGeom prst="rect">
            <a:avLst/>
          </a:prstGeom>
          <a:ln w="76320">
            <a:solidFill>
              <a:srgbClr val="fac0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792000" y="453564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400" spc="-1" strike="noStrike">
                <a:solidFill>
                  <a:srgbClr val="ff0000"/>
                </a:solidFill>
                <a:latin typeface="Agency FB"/>
              </a:rPr>
              <a:t>ÉXITO</a:t>
            </a:r>
            <a:endParaRPr b="0" lang="en-US" sz="3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1096920" y="1846440"/>
            <a:ext cx="10058400" cy="40226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2" descr="Woman at a desk"/>
          <p:cNvPicPr/>
          <p:nvPr/>
        </p:nvPicPr>
        <p:blipFill>
          <a:blip r:embed="rId2"/>
          <a:stretch/>
        </p:blipFill>
        <p:spPr>
          <a:xfrm>
            <a:off x="1149480" y="0"/>
            <a:ext cx="100058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4" descr="http://img168.imageshack.us/img168/729/20070317134305jefexu0.jpg"/>
          <p:cNvPicPr/>
          <p:nvPr/>
        </p:nvPicPr>
        <p:blipFill>
          <a:blip r:embed="rId1"/>
          <a:stretch/>
        </p:blipFill>
        <p:spPr>
          <a:xfrm>
            <a:off x="1531800" y="-81000"/>
            <a:ext cx="930780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8" name="Picture 4" descr="perroyamo"/>
          <p:cNvPicPr/>
          <p:nvPr/>
        </p:nvPicPr>
        <p:blipFill>
          <a:blip r:embed="rId1"/>
          <a:srcRect l="0" t="0" r="0" b="11725"/>
          <a:stretch/>
        </p:blipFill>
        <p:spPr>
          <a:xfrm>
            <a:off x="3917880" y="3808440"/>
            <a:ext cx="3795840" cy="30002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perroorejas"/>
          <p:cNvPicPr/>
          <p:nvPr/>
        </p:nvPicPr>
        <p:blipFill>
          <a:blip r:embed="rId2"/>
          <a:srcRect l="0" t="0" r="0" b="8794"/>
          <a:stretch/>
        </p:blipFill>
        <p:spPr>
          <a:xfrm rot="2047800">
            <a:off x="6356160" y="1820880"/>
            <a:ext cx="5427360" cy="35924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6" descr="perrolargo"/>
          <p:cNvPicPr/>
          <p:nvPr/>
        </p:nvPicPr>
        <p:blipFill>
          <a:blip r:embed="rId3"/>
          <a:srcRect l="0" t="0" r="0" b="11235"/>
          <a:stretch/>
        </p:blipFill>
        <p:spPr>
          <a:xfrm rot="20302200">
            <a:off x="293400" y="394920"/>
            <a:ext cx="6157800" cy="39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523880" y="5071680"/>
            <a:ext cx="65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3800" spc="-1" strike="noStrike">
                <a:solidFill>
                  <a:srgbClr val="000000"/>
                </a:solidFill>
                <a:latin typeface="Calibri"/>
              </a:rPr>
              <a:t>TAYLO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Picture 2" descr="http://www.revistavirtualpro.com/revista/imagenes/2008/agosto/articulos/tiempo2.gif"/>
          <p:cNvPicPr/>
          <p:nvPr/>
        </p:nvPicPr>
        <p:blipFill>
          <a:blip r:embed="rId1"/>
          <a:srcRect l="0" t="17105" r="0" b="0"/>
          <a:stretch/>
        </p:blipFill>
        <p:spPr>
          <a:xfrm>
            <a:off x="1523880" y="1117440"/>
            <a:ext cx="4011840" cy="32785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Frederick Winslow Taylor.JPG"/>
          <p:cNvPicPr/>
          <p:nvPr/>
        </p:nvPicPr>
        <p:blipFill>
          <a:blip r:embed="rId2"/>
          <a:stretch/>
        </p:blipFill>
        <p:spPr>
          <a:xfrm>
            <a:off x="7997760" y="-6480"/>
            <a:ext cx="2371680" cy="9363240"/>
          </a:xfrm>
          <a:prstGeom prst="rect">
            <a:avLst/>
          </a:prstGeom>
          <a:ln w="0">
            <a:noFill/>
          </a:ln>
        </p:spPr>
      </p:pic>
      <p:pic>
        <p:nvPicPr>
          <p:cNvPr id="1144" name="Rectángulo 2" descr=""/>
          <p:cNvPicPr/>
          <p:nvPr/>
        </p:nvPicPr>
        <p:blipFill>
          <a:blip r:embed="rId3"/>
          <a:stretch/>
        </p:blipFill>
        <p:spPr>
          <a:xfrm>
            <a:off x="-353880" y="3852720"/>
            <a:ext cx="6035400" cy="4091040"/>
          </a:xfrm>
          <a:prstGeom prst="rect">
            <a:avLst/>
          </a:prstGeom>
          <a:ln w="0">
            <a:noFill/>
          </a:ln>
        </p:spPr>
      </p:pic>
      <p:pic>
        <p:nvPicPr>
          <p:cNvPr id="1145" name="Rectángulo 5" descr=""/>
          <p:cNvPicPr/>
          <p:nvPr/>
        </p:nvPicPr>
        <p:blipFill>
          <a:blip r:embed="rId4"/>
          <a:stretch/>
        </p:blipFill>
        <p:spPr>
          <a:xfrm>
            <a:off x="6705720" y="5211720"/>
            <a:ext cx="37670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764 L 0.01888 -1.0044 E">
                                      <p:cBhvr>
                                        <p:cTn id="48" dur="2000" fill="hold"/>
                                        <p:tgtEl>
                                          <p:spTgt spid="1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764 L 0.01889 -1.0044 E">
                                      <p:cBhvr>
                                        <p:cTn id="56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2" descr="http://nomegustalapolitica.files.wordpress.com/2009/12/maslow.jpg"/>
          <p:cNvPicPr/>
          <p:nvPr/>
        </p:nvPicPr>
        <p:blipFill>
          <a:blip r:embed="rId1"/>
          <a:stretch/>
        </p:blipFill>
        <p:spPr>
          <a:xfrm>
            <a:off x="5881680" y="2286000"/>
            <a:ext cx="4000680" cy="3500280"/>
          </a:xfrm>
          <a:prstGeom prst="rect">
            <a:avLst/>
          </a:prstGeom>
          <a:ln w="0">
            <a:noFill/>
          </a:ln>
        </p:spPr>
      </p:pic>
      <p:sp>
        <p:nvSpPr>
          <p:cNvPr id="1147" name="1 Título"/>
          <p:cNvSpPr/>
          <p:nvPr/>
        </p:nvSpPr>
        <p:spPr>
          <a:xfrm>
            <a:off x="21668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3800" spc="-1" strike="noStrike">
                <a:solidFill>
                  <a:srgbClr val="000000"/>
                </a:solidFill>
                <a:latin typeface="Calibri"/>
              </a:rPr>
              <a:t>MASLOW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8" name="Picture 4" descr="http://1.bp.blogspot.com/_rViq9VlixGc/Sieyuv11gsI/AAAAAAAACP0/cMYsNL-EI9k/s400/Abraham_maslow.jpg"/>
          <p:cNvPicPr/>
          <p:nvPr/>
        </p:nvPicPr>
        <p:blipFill>
          <a:blip r:embed="rId2"/>
          <a:stretch/>
        </p:blipFill>
        <p:spPr>
          <a:xfrm>
            <a:off x="2000160" y="2206800"/>
            <a:ext cx="280368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159520" y="2349000"/>
            <a:ext cx="536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Calibri"/>
              </a:rPr>
              <a:t>LO QUE NO SE PUEDE MEDIR</a:t>
            </a:r>
            <a:br>
              <a:rPr sz="6000"/>
            </a:br>
            <a:r>
              <a:rPr b="1" lang="es-MX" sz="6000" spc="-1" strike="noStrike">
                <a:solidFill>
                  <a:srgbClr val="000000"/>
                </a:solidFill>
                <a:latin typeface="Calibri"/>
              </a:rPr>
              <a:t>NO SE PUEDE </a:t>
            </a:r>
            <a:r>
              <a:rPr b="1" lang="es-MX" sz="6000" spc="-1" strike="noStrike">
                <a:solidFill>
                  <a:srgbClr val="ffffff"/>
                </a:solidFill>
                <a:latin typeface="Calibri"/>
              </a:rPr>
              <a:t>GESTION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0" name="Picture 2" descr="http://t1.gstatic.com/images?q=tbn:ANd9GcReN3DP-xO3FRmFjflcbgOZE52eeJfqvaJfXkzudKM6FYB6A1rITA"/>
          <p:cNvPicPr/>
          <p:nvPr/>
        </p:nvPicPr>
        <p:blipFill>
          <a:blip r:embed="rId1"/>
          <a:stretch/>
        </p:blipFill>
        <p:spPr>
          <a:xfrm>
            <a:off x="1895400" y="2414520"/>
            <a:ext cx="3078360" cy="6838920"/>
          </a:xfrm>
          <a:prstGeom prst="rect">
            <a:avLst/>
          </a:prstGeom>
          <a:ln w="0">
            <a:noFill/>
          </a:ln>
        </p:spPr>
      </p:pic>
      <p:sp>
        <p:nvSpPr>
          <p:cNvPr id="1151" name="1 Título"/>
          <p:cNvSpPr/>
          <p:nvPr/>
        </p:nvSpPr>
        <p:spPr>
          <a:xfrm>
            <a:off x="1523880" y="-2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3800" spc="-1" strike="noStrike">
                <a:solidFill>
                  <a:srgbClr val="000000"/>
                </a:solidFill>
                <a:latin typeface="Agency FB"/>
              </a:rPr>
              <a:t>DRUCKE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035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3" name="Group 44"/>
          <p:cNvGrpSpPr/>
          <p:nvPr/>
        </p:nvGrpSpPr>
        <p:grpSpPr>
          <a:xfrm>
            <a:off x="1523880" y="0"/>
            <a:ext cx="9143640" cy="6857640"/>
            <a:chOff x="1523880" y="0"/>
            <a:chExt cx="9143640" cy="6857640"/>
          </a:xfrm>
        </p:grpSpPr>
        <p:sp>
          <p:nvSpPr>
            <p:cNvPr id="1154" name="AutoShape 7"/>
            <p:cNvSpPr/>
            <p:nvPr/>
          </p:nvSpPr>
          <p:spPr>
            <a:xfrm>
              <a:off x="1523880" y="0"/>
              <a:ext cx="9143640" cy="65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55" name="Picture 9" descr=""/>
            <p:cNvPicPr/>
            <p:nvPr/>
          </p:nvPicPr>
          <p:blipFill>
            <a:blip r:embed="rId1"/>
            <a:srcRect l="0" t="11600" r="0" b="0"/>
            <a:stretch/>
          </p:blipFill>
          <p:spPr>
            <a:xfrm>
              <a:off x="1620000" y="69480"/>
              <a:ext cx="8899200" cy="67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Freeform 11"/>
            <p:cNvSpPr/>
            <p:nvPr/>
          </p:nvSpPr>
          <p:spPr>
            <a:xfrm>
              <a:off x="2230200" y="1775160"/>
              <a:ext cx="7681320" cy="4846680"/>
            </a:xfrm>
            <a:prstGeom prst="pie">
              <a:avLst/>
            </a:prstGeom>
            <a:noFill/>
            <a:ln w="39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Rectangle 12"/>
            <p:cNvSpPr/>
            <p:nvPr/>
          </p:nvSpPr>
          <p:spPr>
            <a:xfrm>
              <a:off x="4566240" y="2278080"/>
              <a:ext cx="2934720" cy="21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3"/>
            <p:cNvSpPr/>
            <p:nvPr/>
          </p:nvSpPr>
          <p:spPr>
            <a:xfrm>
              <a:off x="4571280" y="2278080"/>
              <a:ext cx="2924280" cy="21571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Rectangle 14"/>
            <p:cNvSpPr/>
            <p:nvPr/>
          </p:nvSpPr>
          <p:spPr>
            <a:xfrm>
              <a:off x="4660200" y="2278080"/>
              <a:ext cx="2934720" cy="21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5"/>
            <p:cNvSpPr/>
            <p:nvPr/>
          </p:nvSpPr>
          <p:spPr>
            <a:xfrm>
              <a:off x="4571280" y="2278080"/>
              <a:ext cx="2924280" cy="2157120"/>
            </a:xfrm>
            <a:prstGeom prst="pie">
              <a:avLst/>
            </a:prstGeom>
            <a:noFill/>
            <a:ln w="39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Rectangle 16"/>
            <p:cNvSpPr/>
            <p:nvPr/>
          </p:nvSpPr>
          <p:spPr>
            <a:xfrm>
              <a:off x="5083200" y="2877480"/>
              <a:ext cx="115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c0c0c0"/>
                  </a:solidFill>
                  <a:latin typeface="Arial"/>
                </a:rPr>
                <a:t>Inteligenc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Rectangle 17"/>
            <p:cNvSpPr/>
            <p:nvPr/>
          </p:nvSpPr>
          <p:spPr>
            <a:xfrm>
              <a:off x="5188320" y="2642040"/>
              <a:ext cx="154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eeece1"/>
                  </a:solidFill>
                  <a:latin typeface="Arial"/>
                </a:rPr>
                <a:t>Inteligenc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Rectangle 18"/>
            <p:cNvSpPr/>
            <p:nvPr/>
          </p:nvSpPr>
          <p:spPr>
            <a:xfrm>
              <a:off x="5473080" y="322416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c0c0c0"/>
                  </a:solidFill>
                  <a:latin typeface="Arial"/>
                </a:rPr>
                <a:t>Ment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Rectangle 19"/>
            <p:cNvSpPr/>
            <p:nvPr/>
          </p:nvSpPr>
          <p:spPr>
            <a:xfrm>
              <a:off x="4669920" y="3071520"/>
              <a:ext cx="281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Arial"/>
                </a:rPr>
                <a:t>Mental Y Espiritual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Rectangle 20"/>
            <p:cNvSpPr/>
            <p:nvPr/>
          </p:nvSpPr>
          <p:spPr>
            <a:xfrm>
              <a:off x="5398920" y="3554280"/>
              <a:ext cx="77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c0c0c0"/>
                  </a:solidFill>
                  <a:latin typeface="Arial"/>
                </a:rPr>
                <a:t>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Rectangle 21"/>
            <p:cNvSpPr/>
            <p:nvPr/>
          </p:nvSpPr>
          <p:spPr>
            <a:xfrm>
              <a:off x="5384880" y="3572280"/>
              <a:ext cx="103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400" spc="-1" strike="noStrike">
                  <a:solidFill>
                    <a:srgbClr val="632523"/>
                  </a:solidFill>
                  <a:latin typeface="Arial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Rectangle 22"/>
            <p:cNvSpPr/>
            <p:nvPr/>
          </p:nvSpPr>
          <p:spPr>
            <a:xfrm>
              <a:off x="3348720" y="3892680"/>
              <a:ext cx="2934720" cy="21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23"/>
            <p:cNvSpPr/>
            <p:nvPr/>
          </p:nvSpPr>
          <p:spPr>
            <a:xfrm>
              <a:off x="3354120" y="3897000"/>
              <a:ext cx="2924280" cy="21531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Rectangle 24"/>
            <p:cNvSpPr/>
            <p:nvPr/>
          </p:nvSpPr>
          <p:spPr>
            <a:xfrm>
              <a:off x="3348720" y="3892680"/>
              <a:ext cx="2934720" cy="21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25"/>
            <p:cNvSpPr/>
            <p:nvPr/>
          </p:nvSpPr>
          <p:spPr>
            <a:xfrm>
              <a:off x="3354120" y="3897000"/>
              <a:ext cx="2924280" cy="2153160"/>
            </a:xfrm>
            <a:prstGeom prst="pie">
              <a:avLst/>
            </a:prstGeom>
            <a:noFill/>
            <a:ln w="39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Rectangle 26"/>
            <p:cNvSpPr/>
            <p:nvPr/>
          </p:nvSpPr>
          <p:spPr>
            <a:xfrm>
              <a:off x="3860640" y="4492440"/>
              <a:ext cx="115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c0c0c0"/>
                  </a:solidFill>
                  <a:latin typeface="Arial"/>
                </a:rPr>
                <a:t>Inteligenc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Rectangle 27"/>
            <p:cNvSpPr/>
            <p:nvPr/>
          </p:nvSpPr>
          <p:spPr>
            <a:xfrm>
              <a:off x="3962520" y="4201560"/>
              <a:ext cx="154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eeece1"/>
                  </a:solidFill>
                  <a:latin typeface="Arial"/>
                </a:rPr>
                <a:t>Inteligenc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Rectangle 28"/>
            <p:cNvSpPr/>
            <p:nvPr/>
          </p:nvSpPr>
          <p:spPr>
            <a:xfrm>
              <a:off x="4097880" y="4837320"/>
              <a:ext cx="87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c0c0c0"/>
                  </a:solidFill>
                  <a:latin typeface="Arial"/>
                </a:rPr>
                <a:t>Corpor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Rectangle 29"/>
            <p:cNvSpPr/>
            <p:nvPr/>
          </p:nvSpPr>
          <p:spPr>
            <a:xfrm>
              <a:off x="3964320" y="4643280"/>
              <a:ext cx="1480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800" spc="-1" strike="noStrike">
                  <a:solidFill>
                    <a:srgbClr val="403152"/>
                  </a:solidFill>
                  <a:latin typeface="Arial"/>
                </a:rPr>
                <a:t>Corpora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Rectangle 30"/>
            <p:cNvSpPr/>
            <p:nvPr/>
          </p:nvSpPr>
          <p:spPr>
            <a:xfrm>
              <a:off x="3741840" y="516960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c0c0c0"/>
                  </a:solidFill>
                  <a:latin typeface="Arial"/>
                </a:rPr>
                <a:t>DISCIPLIN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Rectangle 31"/>
            <p:cNvSpPr/>
            <p:nvPr/>
          </p:nvSpPr>
          <p:spPr>
            <a:xfrm>
              <a:off x="3859920" y="5274360"/>
              <a:ext cx="172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400" spc="-1" strike="noStrike">
                  <a:solidFill>
                    <a:srgbClr val="632523"/>
                  </a:solidFill>
                  <a:latin typeface="Arial"/>
                </a:rPr>
                <a:t>DISCIPLI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32"/>
            <p:cNvSpPr/>
            <p:nvPr/>
          </p:nvSpPr>
          <p:spPr>
            <a:xfrm>
              <a:off x="5907240" y="3897000"/>
              <a:ext cx="2934720" cy="21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33"/>
            <p:cNvSpPr/>
            <p:nvPr/>
          </p:nvSpPr>
          <p:spPr>
            <a:xfrm>
              <a:off x="5912640" y="3900960"/>
              <a:ext cx="2924280" cy="215316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Rectangle 34"/>
            <p:cNvSpPr/>
            <p:nvPr/>
          </p:nvSpPr>
          <p:spPr>
            <a:xfrm>
              <a:off x="5907240" y="3897000"/>
              <a:ext cx="2934720" cy="21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35"/>
            <p:cNvSpPr/>
            <p:nvPr/>
          </p:nvSpPr>
          <p:spPr>
            <a:xfrm>
              <a:off x="5912640" y="3900960"/>
              <a:ext cx="2924280" cy="2153160"/>
            </a:xfrm>
            <a:prstGeom prst="pie">
              <a:avLst/>
            </a:prstGeom>
            <a:noFill/>
            <a:ln w="39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36"/>
            <p:cNvSpPr/>
            <p:nvPr/>
          </p:nvSpPr>
          <p:spPr>
            <a:xfrm>
              <a:off x="6424920" y="4494600"/>
              <a:ext cx="115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c0c0c0"/>
                  </a:solidFill>
                  <a:latin typeface="Arial"/>
                </a:rPr>
                <a:t>Inteligenci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Rectangle 37"/>
            <p:cNvSpPr/>
            <p:nvPr/>
          </p:nvSpPr>
          <p:spPr>
            <a:xfrm>
              <a:off x="6472800" y="4215600"/>
              <a:ext cx="154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eeece1"/>
                  </a:solidFill>
                  <a:latin typeface="Arial"/>
                </a:rPr>
                <a:t>Inteligenc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Rectangle 38"/>
            <p:cNvSpPr/>
            <p:nvPr/>
          </p:nvSpPr>
          <p:spPr>
            <a:xfrm>
              <a:off x="6496920" y="4840920"/>
              <a:ext cx="106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c0c0c0"/>
                  </a:solidFill>
                  <a:latin typeface="Arial"/>
                </a:rPr>
                <a:t>Emoc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Rectangle 39"/>
            <p:cNvSpPr/>
            <p:nvPr/>
          </p:nvSpPr>
          <p:spPr>
            <a:xfrm>
              <a:off x="6484680" y="4643280"/>
              <a:ext cx="179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800" spc="-1" strike="noStrike">
                  <a:solidFill>
                    <a:srgbClr val="254061"/>
                  </a:solidFill>
                  <a:latin typeface="Arial"/>
                </a:rPr>
                <a:t>Emociona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Rectangle 40"/>
            <p:cNvSpPr/>
            <p:nvPr/>
          </p:nvSpPr>
          <p:spPr>
            <a:xfrm>
              <a:off x="6644160" y="517320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c0c0c0"/>
                  </a:solidFill>
                  <a:latin typeface="Arial"/>
                </a:rPr>
                <a:t>PA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Rectangle 41"/>
            <p:cNvSpPr/>
            <p:nvPr/>
          </p:nvSpPr>
          <p:spPr>
            <a:xfrm>
              <a:off x="6732000" y="534564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400" spc="-1" strike="noStrike">
                  <a:solidFill>
                    <a:srgbClr val="632523"/>
                  </a:solidFill>
                  <a:latin typeface="Arial"/>
                </a:rPr>
                <a:t>PAS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Rectangle 42"/>
            <p:cNvSpPr/>
            <p:nvPr/>
          </p:nvSpPr>
          <p:spPr>
            <a:xfrm>
              <a:off x="4874040" y="6214680"/>
              <a:ext cx="2579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CONCIENC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8" name="39 Rectángulo" descr=""/>
          <p:cNvPicPr/>
          <p:nvPr/>
        </p:nvPicPr>
        <p:blipFill>
          <a:blip r:embed="rId5"/>
          <a:stretch/>
        </p:blipFill>
        <p:spPr>
          <a:xfrm>
            <a:off x="1517760" y="-115920"/>
            <a:ext cx="915660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5:08:43Z</dcterms:created>
  <dc:creator>Marita</dc:creator>
  <dc:description/>
  <dc:language>en-US</dc:language>
  <cp:lastModifiedBy>Hernán Castillejo</cp:lastModifiedBy>
  <dcterms:modified xsi:type="dcterms:W3CDTF">2013-08-28T14:54:40Z</dcterms:modified>
  <cp:revision>19</cp:revision>
  <dc:subject/>
  <dc:title>EL ROL DE LAS ORGANIZACIONES PARA EL ÉXITO DE LAS PERSONAS</dc:title>
</cp:coreProperties>
</file>